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F6B-D504-4809-9FED-04782594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899-32D9-43FD-B32C-3AA0F1B5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027-00D2-44AC-8C28-1EE364A6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727-1CED-43D2-8878-F78FEF56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31E4-F065-4F82-8CE6-2CB0ED24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4FBF-70A7-410E-88CE-115CE60B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8F36-D59D-4031-99E5-3C38EBB9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F4F0-50C0-47CD-BA08-E689C4B9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693C-261F-4A7E-9321-4905F916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73BC-A89A-4920-8640-2F08A8B6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2896-1C70-452D-92BE-E4560EE4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C76B-7F91-4D0B-BAED-35E451FB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7396-F4A8-47D8-9594-FDDE93A3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7C8B-4677-4E8E-AFA4-C7262B34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C08C-CC09-4504-BCD9-57D55ACB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3299-430F-45C8-8165-1F221BB8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7D70-0CEE-4A7F-87AB-5A47FA6F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C6C-0C04-4D35-BEE4-834093B1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0F72-E919-4C19-9D4B-6F5C54C6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E160-7AAD-4F7E-999C-403BD823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C1C6-66D9-40E4-B128-61499782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577-47A6-49C6-A1FB-71BEDDCE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7BF6-A1C7-4347-B236-53A864FB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EE64-83C0-40FD-B79B-F61B39E6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477120"/>
            <a:ext cx="1295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7FC4-4EBF-4122-AAE0-ECD885ABAFA5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B841-2600-4E14-85D3-DD1175968427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elegraph.co.uk/science/picture-galleries/7924099/Creepy-crawlies-Amazing-Scanning-Electron-Microscope-pictures-of-insects-and-spiders.html?image=2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817227"/>
                </a:solidFill>
                <a:latin typeface="Arial Black"/>
              </a:rPr>
              <a:t>Cells and Systems</a:t>
            </a:r>
            <a:endParaRPr b="0" lang="en-US" sz="44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08000" y="3657240"/>
            <a:ext cx="4902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904760"/>
            <a:ext cx="8305920" cy="4267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1671480" y="404640"/>
            <a:ext cx="58010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Using a Microscope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181240" y="1697040"/>
            <a:ext cx="505476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Using a Microscope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Always carry a microscope with 2 hand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Only use lens cleaning tissue – not paper tow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Look at the microscope side on, wind to the lowest point and then focus by winding upward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817227"/>
                </a:solidFill>
                <a:latin typeface="Arial Black"/>
              </a:rPr>
              <a:t>Using The Microscope</a:t>
            </a:r>
            <a:endParaRPr b="0" lang="en-US" sz="36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05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Each lens has a magnification on it (the x number)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The total magnification is the eye piece x objectiv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Place a small piece of newsprint with the letter ‘e’ on a glass slide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Use a pipette to place a drop of water on the newsprint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Slowly lower a coverslip onto the print – try to avoid bubble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Place the slide onto the stag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Lower the bodytube to the lowest point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Look through the eyepiece and  focus first using the coarse then fine adjustment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Using the Microscope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28280"/>
            <a:ext cx="83059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What do you notice about the letter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Using low magnification draw what you see.  Try to draw to scale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Increase the magnification, don’t change the field of view and draw what you see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Increase to the final magnification and draw what you se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817227"/>
                </a:solidFill>
                <a:latin typeface="Arial Black"/>
              </a:rPr>
              <a:t>Student Knowledge and Skills</a:t>
            </a:r>
            <a:endParaRPr b="0" lang="en-US" sz="36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059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WHAT YOU WILL LEARN BY THE END OF THIS UNIT: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List the main parts of a microscop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How a microscope work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differences between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components of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jobs performed by different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jobs performed by different tissues in animals and plant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How to make a wet mount and stain the mount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Make an accurate drawing of a cell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25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25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25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25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25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25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25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25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25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25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25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25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25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25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25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25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25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25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25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25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25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25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25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25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25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25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25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25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25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25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25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25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25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25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25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25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981000"/>
            <a:ext cx="830592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2060"/>
                </a:solidFill>
                <a:latin typeface="Arial"/>
              </a:rPr>
              <a:t>Scope of Unit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The history of cell discovery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The microscope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The cell makeup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Plant Cells vs Animal Cell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Cells, tissues and organ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Melanoma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Bacteria, Fungi and Viruse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981000"/>
            <a:ext cx="830592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2060"/>
                </a:solidFill>
                <a:latin typeface="Arial"/>
              </a:rPr>
              <a:t>What you will produce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Workbook note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Prac. Notes/report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Cell drawing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Various Question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CAI – microscope prac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2060"/>
                </a:solidFill>
                <a:latin typeface="Arial"/>
              </a:rPr>
              <a:t>There may be a final test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08000" y="1557000"/>
            <a:ext cx="36100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</a:rPr>
              <a:t>Unicellular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</a:rPr>
              <a:t>Multicellular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</a:rPr>
              <a:t>Prokaryot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</a:rPr>
              <a:t>Eukaryot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</a:rPr>
              <a:t>Cell Membran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</a:rPr>
              <a:t>Cell Wal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</a:rPr>
              <a:t>Cytoso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</a:rPr>
              <a:t>Ribosom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468360" y="9079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651b"/>
                </a:solidFill>
                <a:latin typeface="Arial"/>
              </a:rPr>
              <a:t>KEY TERMS</a:t>
            </a:r>
            <a:r>
              <a:rPr b="0" lang="en-AU" sz="1800" spc="-1" strike="noStrike">
                <a:solidFill>
                  <a:srgbClr val="ff651b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3203640" y="1549440"/>
            <a:ext cx="361152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Mitochondria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Chloroplas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Vacuol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Nucleu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Organell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Organ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Cell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Tissu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5940360" y="1477800"/>
            <a:ext cx="3610080" cy="46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Stem Cell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Epidermi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Cancer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Melanoma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Bacteria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Algae 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Fungi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651b"/>
                </a:solidFill>
                <a:latin typeface="Arial"/>
                <a:ea typeface="ＭＳ Ｐゴシック"/>
              </a:rPr>
              <a:t>Viru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Seeing Cell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3305"/>
                </a:solidFill>
                <a:latin typeface="Arial"/>
              </a:rPr>
              <a:t>Microscopes enable us to see very small objects. </a:t>
            </a:r>
            <a:r>
              <a:rPr b="0" lang="en-AU" sz="3200" spc="-1" strike="noStrike">
                <a:solidFill>
                  <a:srgbClr val="002060"/>
                </a:solidFill>
                <a:latin typeface="Arial"/>
              </a:rPr>
              <a:t>There are many different types of microscopes. Light microscopes use a series of glass lenses to bend light to create a magnified image. 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2060"/>
                </a:solidFill>
                <a:latin typeface="Arial"/>
              </a:rPr>
              <a:t>Electron Microscopes use electrons to so display a magnified image on a screen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ttp://www.telegraph.co.uk/science/picture-galleries/7924099/Creepy-crawlies-Amazing-Scanning-Electron-Microscope-pictures-of-insects-and-spiders.html?image=2</a:t>
            </a:r>
            <a:r>
              <a:rPr b="0" lang="en-AU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pic>
        <p:nvPicPr>
          <p:cNvPr id="97" name="Content Placeholder 4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648240" cy="273672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2"/>
          <p:cNvSpPr/>
          <p:nvPr/>
        </p:nvSpPr>
        <p:spPr>
          <a:xfrm>
            <a:off x="176040" y="-2193840"/>
            <a:ext cx="6096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76040" y="34750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993300"/>
                </a:solidFill>
                <a:latin typeface="Arial"/>
              </a:rPr>
              <a:t>http://commtechlab.msu.edu/sites/dlc-me/zoo/zah0700.htm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4008600" y="1884240"/>
            <a:ext cx="1828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99880" y="549360"/>
            <a:ext cx="31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993300"/>
                </a:solidFill>
                <a:latin typeface="Arial"/>
              </a:rPr>
              <a:t> 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scherichia coli</a:t>
            </a:r>
            <a:br>
              <a:rPr sz="1800"/>
            </a:b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Image Width: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9.5 microns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2"/>
          <a:stretch/>
        </p:blipFill>
        <p:spPr>
          <a:xfrm>
            <a:off x="4356000" y="257004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0"/>
          <p:cNvSpPr/>
          <p:nvPr/>
        </p:nvSpPr>
        <p:spPr>
          <a:xfrm>
            <a:off x="441360" y="64533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00" spc="-1" strike="noStrike">
                <a:solidFill>
                  <a:srgbClr val="993300"/>
                </a:solidFill>
                <a:latin typeface="Arial"/>
              </a:rPr>
              <a:t>http://www.art.com/products/p360992961-sa-i4012396/michael-gabridge-escherichia-coli-bacteria-colonies-on-macconkey-agar-culture-dish-lactose-fermenters-are-red.htm</a:t>
            </a:r>
            <a:endParaRPr b="0" lang="en-US" sz="7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4356000" y="619128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993300"/>
                </a:solidFill>
                <a:latin typeface="Arial"/>
              </a:rPr>
              <a:t>http://janiceatmeredith.wordpress.com/2012/01/24/how-to-gram-stain/</a:t>
            </a:r>
            <a:endParaRPr b="0" lang="en-US" sz="11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530280" y="4016520"/>
            <a:ext cx="324972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History of the Microscope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5"/>
                </a:solidFill>
                <a:latin typeface="Arial"/>
              </a:rPr>
              <a:t>1665 Robert Hooke named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5"/>
                </a:solidFill>
                <a:latin typeface="Arial"/>
              </a:rPr>
              <a:t>1675 Leeuwenhoek discovered bacteria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5"/>
                </a:solidFill>
                <a:latin typeface="Arial"/>
              </a:rPr>
              <a:t>1824 Dutrochet planets and animals are made of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5"/>
                </a:solidFill>
                <a:latin typeface="Arial"/>
              </a:rPr>
              <a:t>1831 Brown observes the nucleu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5"/>
                </a:solidFill>
                <a:latin typeface="Arial"/>
              </a:rPr>
              <a:t>1933 Ruska builds first electron microscop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06:10:25Z</dcterms:created>
  <dc:creator>Administrator</dc:creator>
  <dc:description/>
  <dc:language>en-US</dc:language>
  <cp:lastModifiedBy>Peter Kos</cp:lastModifiedBy>
  <dcterms:modified xsi:type="dcterms:W3CDTF">2012-05-14T02:21:48Z</dcterms:modified>
  <cp:revision>41</cp:revision>
  <dc:subject/>
  <dc:title>Cells and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9391033</vt:lpwstr>
  </property>
</Properties>
</file>